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3247-492D-4C95-96DB-5BD8AF6CC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BCDE-834F-461A-A280-5FCE94075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A0D3-A485-4E2A-9CAA-B8F7F8C10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8897-4CBD-41CC-A0DB-D7698B827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DD01-FBF8-4400-9A61-887F8509B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9B61-BBD6-490D-B2AC-03C243F1C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EA7A-3CBD-42D4-AEAC-536263AC1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213E-E85E-4893-A9BB-9BE50F380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01F6-20CC-42A9-9979-47975DC57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1A49-A3BE-460E-971D-DFC621F69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9429-13A0-4303-A93F-701BE5F85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4298-4857-46C7-B988-FD506E3CB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03195-E367-404A-8C51-53824341DF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Where to from here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we have learnt so far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21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isting WCPFC measures (CMM 2006-01 &amp; 2005-01) established effort caps – but insufficient to address overfis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S management measures are being implemented by PNA members within EEZ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tch ret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 month FAD clo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18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% observer cov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greement that require ‘complimentary’ measures in the high seas (achieve equivalent effect but not necessarily the s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incipl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asures should be established across PS and LL to be effective &amp; not pose disproportional burden on fishe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im to minimise impacts on skipjack and albacore cat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ed to act at the next meeting ……no compromise on th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uggested PS measur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In high seas between 2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N and 1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S and compatible with EEZ meas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Total effort limit (vesse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Total effort limit (days) monitored through VMS (similar to V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Total catch limit (responsive to population size chang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On all PS effort or FAD/log set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Catch ret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3 month FAD clo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100% Observer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Staged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ggested PS Meas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osure of high se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osure of high seas pock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S discussion on co-operative management and decision ma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ll closure say 3 mont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uggested PS measur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ternative metho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t depth restri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trictions on time of 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trictions on mesh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on phase consid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otential LL measur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In high seas between 2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N and 1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S and compatible with EEZ meas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Total effort limit (vessels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Total effort limit (days) monitored through VMS (similar to VDS-like schem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Total catch lim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25% reduction  in capa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Closed areas/seasons (in addition to above measur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Observer requiremen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osure of high seas pocke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osures of high seas until measures develop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to address vulnerability in Eastern secto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itional effort from non-memb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UU effor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ket Pressure/ Certific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ture certification pressures/requiremen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CS arrang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eneral additional issue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us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tus of the st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g-eye and yellowfin measure which include compatible measure  eg VDS on High s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pirational righ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w Entr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2:15:46Z</dcterms:created>
  <dc:creator>Higgins Amy</dc:creator>
  <dc:description/>
  <dc:language>en-US</dc:language>
  <cp:lastModifiedBy>SANTANA LARA</cp:lastModifiedBy>
  <dcterms:modified xsi:type="dcterms:W3CDTF">2008-04-14T06:35:43Z</dcterms:modified>
  <cp:revision>19</cp:revision>
  <dc:subject/>
  <dc:title>Where to from here?</dc:title>
</cp:coreProperties>
</file>